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0A8-AA41-4B96-90BA-26517C24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8B3-3AEC-43CA-82B9-D4786B4B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9027E-7F78-4057-9DF8-D98BDB02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2922B-DCC0-4E1D-826D-75928BB6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938BD-26CF-4974-ADAA-C6F8C9A9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1EC54-8F7E-485A-9B65-D8B4A43D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F3FDF-7261-4EFD-BE61-1E667181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AE485-EA46-4B0F-A59A-D1705674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04E7E-22CE-492A-9756-3EB4C409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4C0AC-CD70-453D-BBF2-0C3EF03B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D9462-1520-4CCF-B5A2-07B44286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91E7B-845C-4C45-870F-E48E18A5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61E-C2B7-4134-854D-26E23B41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24334-E902-436D-A813-6CE9F146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4100D-D243-448C-B47E-A177D7C5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82F97-B1E4-4D89-BB1A-D372386B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B7E1A-9D55-417E-89DD-19DC11E3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13CE9-77F0-4D20-B9B6-7C390AC2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14008-8D1C-4DCB-BD23-E51EEFBA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447E3-C138-46FC-8368-6D09F057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56847-A8C8-4734-8C6A-0D04B4C0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A2ECD-8074-4886-95E9-6199F116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50247-C685-4D65-84E1-62B886C1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FC3-49F3-4DFC-8D36-B1710A5E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25EC3-7A39-4EBA-BA60-3FB3BFB0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A7980-0015-43DD-A9FF-E5CE98BE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F3ACD-215A-470C-85B2-A0AD83DA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5EACF-79AE-4E11-9D38-CAA602E3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0E381-DED0-4635-95BB-2C3172C8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E67C6-538D-44C8-8B88-B1F43384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33D25-110C-4B75-9F28-36B542A2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197C9-3BFC-49DA-945C-406DAEA7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81C75-F804-4165-8172-2789F1B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38E57-BC08-4E35-AA62-39E39C9D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6620-2F7F-467E-BE5F-D7B0AA79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C9B75-E687-4990-ACCB-6CEF2BFF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DA3EB-943A-4CAC-ABA3-89A02162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D2A48-FFD5-452A-B0CD-08D39230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EEC76-A1A4-4189-854B-D101D56B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22BB6-3679-4FD8-804C-42FEF890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F1EDF-9E8F-4134-9491-512D6CFA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8CF56-9469-4E9E-AE24-18291C18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CF3D4-AF01-49EE-A0EF-A5BDD8A7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A4D5B-E39C-49C2-8DC0-2817C90A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60835-BC83-4DB4-97B4-BC2E746A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5A90-09B2-4A3E-8787-800C9ACE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CC38F-3921-4653-A6C7-79B29280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3C8E2-0AB2-46F2-94FE-F0F9F6B4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8BFC6-8025-46B7-A044-3434DA50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8A66F-56BF-4E60-A536-533065E4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0A7A4-67D3-4954-8BAC-F1EC8443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48AE0-5E3E-443A-9F22-7639081D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64B08-4310-4DE8-9CE4-C584E1FB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58F79-79A7-48DF-B1DB-4F421491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59996-44B3-4096-8675-D49E4DBF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726EE-B9AA-4145-B13E-8E38F8A9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22A7-44F8-446B-A23A-1B41F4A6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E3899-39F6-4A98-9D3E-0F88A99D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0D2D4-B606-42CF-A492-12F393B5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04F51-66DE-4C43-81B6-E3302057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8E481-9F98-4D70-8BA0-49E6ED16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2D981-D7FD-4226-B721-3550AF6B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52D11-8347-4D41-AF96-7CE89617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C548C-FB06-43BB-BAA5-0C99FF79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7424E-770C-48C8-BDBE-129C5C61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C2600-F26A-4B96-922B-B6B1BCC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5435B-A584-4056-9503-F5B08B0C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6E58-9AE6-4748-9EC6-42FB3D72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A5149-C399-401B-8FAD-D319A6F4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A7A8A-518F-4957-84F5-8C45F484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61D5FA-0429-4BCE-AE18-03F151B4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4ACE0-A191-4300-ABDD-DB4AF3B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03A71-3456-4485-A625-1E7A7DD8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C4E1C-9F16-4F9A-A90D-D90B13AE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DA3FE-177B-4C48-B15F-4E72E269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39CBD-09B7-41B7-B3D9-C72BEE6A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3845C-9797-444B-AA03-346AAA12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53FE8-BF48-4E58-85E4-D2803F73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0DBE-F1AB-4EA3-A7E6-CB5C2BD1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15727-D5F0-45B9-98C3-537FC214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36EE6-958C-48A6-B9A3-ECEF3B8B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2EF77-1915-4CBD-ABDF-CA73BD53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19DBF-0D56-4BEA-A148-18F808A2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335E2-55C4-4C0E-A127-F9568E07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4DB6A-9E43-4D87-8B0B-56FA8979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60325-DB00-4469-B8AC-BAA6B0E8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1904C-DCAB-4BDA-8D80-BEE3792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73A85-6FBD-4CCF-92AF-206A9F2C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B66AD3-A5CA-4B2F-BF11-EB0B0D9B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CB75-A05A-474A-BB27-FD92EB00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7DFFF-B414-4A84-AB65-E9D34F2B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59375-51F7-4F0C-A98A-157790E6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CED1D-0E11-41C3-B597-6A5C78FF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F48A7-56F8-4B56-B2F5-BB3E01DC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22BFD-08BD-4029-933D-0CF070FF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DBA21-20F4-48F1-B9BC-347494F6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20F556-BF12-4095-9F14-AB0539B2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F45D3B-E84C-4805-AB41-D403EBA1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1274B-5EDD-4E05-A147-BA6859B0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BD5AB-0CE1-4A28-AC48-F1913E3C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AD2A-16A8-4024-91BE-D61B3C4C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C087F-BBBD-418B-B6DB-DE9003B3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3E790-F178-4F49-83D2-C80A3649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EDC8E-B641-4A70-906F-06446AC6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6A793D-16B4-4ED0-A148-6B63478D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6135CC-4F05-4E7F-9352-D5B943A9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1FC94F-C6F2-49F9-B5E9-976D3709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FE6D5-BEC0-4016-A864-3DC140EE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A56D8-0F09-4E35-A788-76E335EB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4397F-CE5C-4330-A2EE-C8075286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319029-26A1-41B9-A17B-87B73959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805-8B3E-4559-867C-167962FE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4974-6562-4475-954A-38FEB610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909ED6-F26B-4536-8FF9-CC6AF6CC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4A6BBD-1C29-410B-8FEC-4803FE89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9EE93-E98B-4FE6-8B68-F10587A4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561D3-9F57-4C2B-A4D8-D294C6DF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1955B5-D253-4385-8304-FD1AE806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C2D97-25C5-4AA3-8D79-FA79EF90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EABE51-E2F9-4C05-82DE-DA61FE60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0E553-C4F0-4D8D-881E-5E91939F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80977B-E13B-47C7-914A-931D6FFF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FD5DF-4E27-4C91-949B-1DF5CEAD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9982-A1D7-4EDB-A809-B84894D7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23B84-74A2-4F46-BAE1-EBBE92D6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9617C-38E6-4E0C-9D7F-B87A50CE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9CB55-15F7-40C8-B389-9C53648B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55E29-BCE6-4797-92FC-77C5E24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F6CA0-6571-4C83-935C-ECFBDF90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565E4E-7937-4139-A1F4-4E1D0BFD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4EB95-50B2-4033-AF6F-AC906282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46451F-3D53-4EEA-B0F4-F3734BB3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FC1FF-F04A-4163-917B-3F5237B6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E76A1-DC65-42FA-873D-0A364401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0194-F27C-47AA-A8B5-E495E27E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FAB9FD-81BD-48F8-AFA8-1814E240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D978AB-7AE8-4023-BF73-0477B587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188825-5198-46BB-A5FA-306EEA8C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C7283C-78FA-4295-A447-AF05614C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C30794-B985-4768-A182-EF73B2E8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95CE5-9EA0-4EA2-8F75-2DDBCB76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E32CD-A8F9-413F-BF07-84C26F1A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98D95-1EAC-4767-929B-0EFDB482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D903A-9C64-45D6-BE76-DDC2362E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7F03C-FA19-4992-AB1A-D018612F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1A65-2129-49F6-AC9A-0437CF20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EFA2C-299D-4855-8E30-F314C645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47135B-66A8-478E-AD74-924E8079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4DBD07-AFDA-473B-B7C5-3A23C449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DE1A36-83DD-4289-A531-FFC44036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BDE1B-E27B-4E61-8D87-C2D4D30B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60FB76-37AF-455E-A63E-FAF7B7B3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E71F95-5945-4FEE-B007-CEF7025E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EBC32-37CB-474A-A9DE-7924F718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BD0AE-7512-4023-9ABD-CD19574F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5581B4-4A61-4C1D-B93D-CC4FB862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11F3-32BB-4E67-9EE2-DD91DDF3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D608C2-A0CE-4033-B60A-F94EC48A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E31CE7-3CF6-4808-B6D2-DF5258D9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28D399-A729-4904-AC14-9F8AA787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94852D-6A29-40C1-A2DB-F9E3F2D8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B54D6A-4971-40F7-8215-0A20C046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B37DC-83AC-4431-A5B4-0ED76360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87AFA1-68A6-475C-9AFD-01D6AAF7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E5AB18-E1AE-45FB-902A-ACAAB74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A5E79-28F9-473A-AA3F-A16703D4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DC30BD-BA3B-484B-A05A-7D31B05B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BF523-0850-4AA8-93F2-09684C9F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E0EC9F-AF56-4A10-9B13-24B26A46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33E226-2811-4703-B90C-CDC308C3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E5648A-1165-4BD8-8E13-432BFDF1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9386-3515-46DB-A14B-747873E1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11E3-C5F3-4B6D-9C1C-06017622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21652-DAE3-4472-AA83-CCEB693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8ED5-C1EB-4C94-9B4D-B988E47C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42E-8795-44ED-A557-4CEB3599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ADF51-8294-421F-84D2-6073EF49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36682-E227-440A-98A3-491C1981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FC02-48B6-4D16-8BE4-6EABB164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EF124-2D71-4B63-A031-56B3D34F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93847-920D-4E99-B546-4B690222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ED33-0D26-4088-ACA8-50DED7BC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3A63-98D3-400D-AC64-EE47BE73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79C4F-7CC0-460F-88E2-151BBD42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A7ADD-6926-4D9E-929C-D9C7E929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5AE92-33C5-4390-A3FE-F55523E9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BDD-EBA7-43AC-B746-DEE0C2B5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1DAFC-6BBB-4BD3-AA4D-ED946820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8F18F-6DBC-45F0-BCE2-920D3B47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32E72-8797-4BBE-9E95-B58AD369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72314-D170-4793-AF7B-EE88D34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D26D2-4ACE-4198-83FD-4D6141DF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E4BA9-A908-4AD2-96E9-28335732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94D02-0134-4BF8-A033-E2404070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BD2C9-6C4B-44D5-8A59-09E67C61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4A34F-0EC3-474D-B835-1A89A412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B9005-D25D-4367-9916-5F6E0A2B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A67-F1B1-442A-84A0-44C3DCAE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2A1E2-EC7A-48E7-B04C-EFE1AC9C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3DA1E-93AF-4A98-80E0-727FEB3B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D7E8F-06BA-4B43-9308-893F311F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ACE52-C6CB-4841-AED3-4BAAE845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4DFC8-DF11-4DDE-B950-C9641131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46175-DF5F-45BF-B423-3E08CBEA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BC37C-6C77-4B10-BF7A-F5EF2C9E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D9667-B04B-4583-B7C7-FAA4E66B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BD4BF-2994-416C-A96C-B8E85957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0399D-72A3-411F-8415-E5E26D74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E46-29FE-4861-8F13-4CC9B1D9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EFB57-826E-47AB-A91E-074207EB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AC555-3F8A-4FC2-B04B-ECF8A49A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578EE-550B-4E8D-A4D3-AF5D1A3F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A3132-704D-4C3C-9DBE-CC4EC17C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219F9-7ABA-4449-907B-4EF740A6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83C0A-F2F5-45F8-AC00-90B616C8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EB6CE-173B-4DF7-A66C-F1E68F59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D76D3-FC26-47F4-A1D7-C4C13713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CA58B-00BB-4667-A704-B1748BB8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18608-12C2-47D1-BAE4-BDD8EF77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2E0-2460-453E-AA42-E61BBAE4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57EDA-C172-4E47-9AF0-0B6987EE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47A9F-88DA-48EF-8B81-ECFA394A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0AF94-056F-42D9-81AC-7FFC2B69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934A7-0295-44F4-A83E-7D6BE8E6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42097-DBE8-4FE4-BDEE-4862D39C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A7562-34A2-4D31-B48D-7B0C1190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5DFC2-64CD-4FCB-8DE6-DA38FA2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FC77B-996A-4C73-981B-7086FB47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CE7CB-62BE-4725-B339-B1D39B3B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DFB7E-32D1-45FB-BCCB-7DCE3FFD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876-F50D-40B1-AA0F-F4EF869C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9C910-E0A3-44C9-8F52-9AF1F42E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B1ACE-B520-4F13-B379-C6C4FE5B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D3941-A1D6-4B84-A0AE-7CEBD416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B7DA9-3F0A-4E67-8051-EF1A27EA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0B72C-5942-4630-AD25-FA905CC1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D50C1-345B-45C2-A680-B59C3E67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0E0A5-D9E9-49B8-AB3A-E3BABA69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EB391-D779-427D-BCB1-6B9B5C72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43EBE-EADB-435C-A440-58AB2149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24C7B-38F3-44ED-B46E-4B1A2DB4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B0C-0E86-40DB-99E3-B6F0660A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B82D4-2F1A-4EB6-9E26-7DE6A020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2C387-4D1B-429E-BDAD-685A1FB6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1F84C-D467-48D1-A130-BA246852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40731-F6D6-4B09-90DB-D251E668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95024-2A59-4CFB-9015-ADAD94E9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B5780-2466-4965-ACA6-AD1E0112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92B60-AE59-46B8-B894-FE9B13BD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D9A92-EC2C-4D4D-8430-69A6FC23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09287-3012-41E2-BC45-C3370767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7F466-6259-4A83-B884-E5D38FE0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5BD1-9076-4B6B-B98B-9A9A4D3B91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22EE-8D7D-4A22-BB52-CA95317FC6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28D5-6134-4B64-8F92-B04BE45C10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3043-7487-4B02-BA15-CF587C0D10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A42D-91D0-4279-85E6-A800CB7A8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03E4-2793-4175-9772-9DEC566ED2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1CBF-FF51-40FD-986F-CC081AF0FB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2D9A-D5BB-44FE-911F-84425D313D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ED78-2BB5-476C-B824-4A4A85AE15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6ED5-0617-4A09-AE01-D257798443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2672-E3C0-4846-94F6-594A6C5F1B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28A0-C282-4FAC-86DA-78DC2D3546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C8F7-DEFA-4CE6-96CA-A33C6110C3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BDE4-6A27-4C70-9AC5-FECAA1AF78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48EF-4527-45E1-909D-083A912C98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AF3A-1370-4DB2-BF72-C72FCD69B1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8770-02E0-4166-9829-470B511059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D452-072B-4EC7-9171-5D9534E771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DBD1-6FD5-4CFC-88AE-286BC578E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1734-5859-44C2-823D-4493CE60CF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3293-B0F5-475F-B420-D7484B3342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472A-64EA-4D84-8487-CFF66A608E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E7C3-28C4-4B86-B1BE-CA32E076CA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C7D8-602C-44D6-8270-4E14B7B289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1DAF-6E2C-4349-8BE7-AEE06D243A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3D2E-99CE-432E-B7DA-94D3DD449F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A365-A7DB-4CD1-A7AA-726D55CF5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C285-6228-44DB-A49C-A47DF4C06A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D51D-4E61-408B-81A9-764B68E03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69B4-A1F8-422A-BF44-AC9CEA0DE4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58E7-E443-4B8E-9415-76DE3671AF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784F-F786-40CD-9DD7-F54CA96BBA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A34D-DC90-4EF4-AB27-2B01B7A882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7598-14D9-4330-899B-5E62DB89CC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E644-F56F-45B4-BE8C-76243ACF01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03D0-6F79-4E6C-8B88-5AA6F726CB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D749-A94E-4493-84FA-D9858F9B5F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BB09-D234-4DF5-BDB7-08FA32146F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0FDB-0683-4CFB-807B-115BDB0517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4D49-4539-4C43-B1AA-22A0ECC621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862360" y="3191040"/>
            <a:ext cx="341928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28680" y="1300320"/>
            <a:ext cx="8486640" cy="425736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1138320" y="2314440"/>
            <a:ext cx="7667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138240" y="2505240"/>
            <a:ext cx="8867520" cy="1847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608040" y="3203640"/>
            <a:ext cx="1947960" cy="2523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1947960" cy="252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468360" y="3789360"/>
            <a:ext cx="1947960" cy="2523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395280" y="4086360"/>
            <a:ext cx="367200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8373" descr=""/>
          <p:cNvPicPr/>
          <p:nvPr/>
        </p:nvPicPr>
        <p:blipFill>
          <a:blip r:embed="rId1"/>
          <a:stretch/>
        </p:blipFill>
        <p:spPr>
          <a:xfrm>
            <a:off x="128520" y="806400"/>
            <a:ext cx="8886960" cy="5791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826920" y="2401920"/>
            <a:ext cx="1947960" cy="252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755640" y="2708280"/>
            <a:ext cx="1947960" cy="2523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684360" y="2997360"/>
            <a:ext cx="1947600" cy="2523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684360" y="3294000"/>
            <a:ext cx="5759280" cy="2523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684360" y="4211640"/>
            <a:ext cx="5759280" cy="2523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684360" y="4498920"/>
            <a:ext cx="5759280" cy="2523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755640" y="4788000"/>
            <a:ext cx="5759640" cy="2523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684360" y="5094360"/>
            <a:ext cx="5759280" cy="2523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0"/>
          <a:stretch/>
        </p:blipFill>
        <p:spPr>
          <a:xfrm>
            <a:off x="611280" y="5670720"/>
            <a:ext cx="5759280" cy="2523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1"/>
          <a:stretch/>
        </p:blipFill>
        <p:spPr>
          <a:xfrm>
            <a:off x="611280" y="5987880"/>
            <a:ext cx="5759280" cy="252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2"/>
          <a:stretch/>
        </p:blipFill>
        <p:spPr>
          <a:xfrm>
            <a:off x="611280" y="6299280"/>
            <a:ext cx="57592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32:1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